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7C2-148D-49A2-AEBD-F4F3D285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CEE-BCF6-4909-8369-D863C648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F1A-50DF-41C0-A8BC-D40C1143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82C-4DA8-4144-96C5-6B9BA024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D03-B3A7-482B-8E04-15F6C0F1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FBE-FCE9-47F6-BB12-63FE3717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D54-AB77-4C98-9124-67210EB8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9F6-CA97-4458-9ECB-5A863167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1CE-1C1E-45D1-976B-6E11C2B7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C38-8289-4567-860E-CD97E28B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EF8-A10E-410A-8FA0-B13F752C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3B4-86DC-482B-B0A2-184BDF1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00ED-49B7-465C-A705-66A4B37B7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d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dark ages the city-state eme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oponne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quered Messenia in 725 B.C. and took Messenians as slaves (Hel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ots revolted and almost over-threw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&gt;Milit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army for over 300 years, but 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d DUTY, STRENGTH, DISCIPLINE, over beauty or freedom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had every right but the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on’s Reform for Ath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civil war due to Aristocratic rule and farmers unhappiness, Greeks gave full power to Solon to reform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ade Economic &amp; Politi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ale citizens attend assembly and matters decided by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citizen could bring a charge against another citizen, even if crime had been committed against a slave– Revolutiona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led debt and freed slaves of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farming profitable through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isthenes Conti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8 B.C., he continued reforms to make Athens a full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Council of Five Hund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to complete democracy EXCEPT only 20% were actually citiz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men played LITTLE role in Athe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an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ersian_wars"/>
          <p:cNvPicPr/>
          <p:nvPr/>
        </p:nvPicPr>
        <p:blipFill>
          <a:blip r:embed="rId1"/>
          <a:stretch/>
        </p:blipFill>
        <p:spPr>
          <a:xfrm>
            <a:off x="1665360" y="1600200"/>
            <a:ext cx="5811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Inva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by Darius of Per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enians beat Persians and 26 mile Marathon (to Athens) run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80932690_3d4efa0126"/>
          <p:cNvPicPr/>
          <p:nvPr/>
        </p:nvPicPr>
        <p:blipFill>
          <a:blip r:embed="rId1"/>
          <a:stretch/>
        </p:blipFill>
        <p:spPr>
          <a:xfrm>
            <a:off x="4800600" y="3809880"/>
            <a:ext cx="3654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by Xerxes (Darius’ 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tans fight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Thermopylae (hot g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e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down 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l battle at the Gulf of Sal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erxes loses- Persian threat destroy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348_Original_300_Spartans_poster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sults of Per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ian Le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enian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ve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Athens Golden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league_map"/>
          <p:cNvPicPr/>
          <p:nvPr/>
        </p:nvPicPr>
        <p:blipFill>
          <a:blip r:embed="rId1"/>
          <a:stretch/>
        </p:blipFill>
        <p:spPr>
          <a:xfrm>
            <a:off x="3962520" y="1523880"/>
            <a:ext cx="48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cropolis - Restored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the 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e M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ults were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s was CENTRAL in Greek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-&gt; free + rational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Debate– No empe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YOURSEL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c discussions were held at Ag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citizenry to be b/w 5-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stocracy &amp; Ty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stocracy-&gt; E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group of people who regularly maintain power w/in their small group of friends/rel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HAVE AN ARISTOCRACY IN AMER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eek Aristocracy maintain their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han political power, what power did they po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rants-? Take over- WE NEED CHANGE IN GREECE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or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reform a positive thing and when is it nega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l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esult of iron, a new type of army arose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citizen was expected to fight for their po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d a sword i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and shield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kwalitee-hoplite-red"/>
          <p:cNvPicPr/>
          <p:nvPr/>
        </p:nvPicPr>
        <p:blipFill>
          <a:blip r:embed="rId1"/>
          <a:stretch/>
        </p:blipFill>
        <p:spPr>
          <a:xfrm>
            <a:off x="5562720" y="2590920"/>
            <a:ext cx="2381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061-athens-map-1000"/>
          <p:cNvPicPr/>
          <p:nvPr/>
        </p:nvPicPr>
        <p:blipFill>
          <a:blip r:embed="rId1"/>
          <a:stretch/>
        </p:blipFill>
        <p:spPr>
          <a:xfrm>
            <a:off x="762120" y="0"/>
            <a:ext cx="7470720" cy="6518160"/>
          </a:xfrm>
          <a:prstGeom prst="rect">
            <a:avLst/>
          </a:prstGeom>
          <a:ln w="0">
            <a:noFill/>
          </a:ln>
        </p:spPr>
      </p:pic>
      <p:sp>
        <p:nvSpPr>
          <p:cNvPr id="56" name="Oval 7"/>
          <p:cNvSpPr/>
          <p:nvPr/>
        </p:nvSpPr>
        <p:spPr>
          <a:xfrm>
            <a:off x="3048120" y="4343400"/>
            <a:ext cx="9144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V="1">
            <a:off x="838080" y="47239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343400" y="3429000"/>
            <a:ext cx="7621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4647960" y="3962520"/>
            <a:ext cx="19047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la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halanx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complete opposite of  Sp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D-&gt; education and freedom of the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 -&gt; democracy because of Solon and Cleisthenes re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6:12:21Z</dcterms:created>
  <dc:creator>Darien Public Schools</dc:creator>
  <dc:description/>
  <dc:language>en-US</dc:language>
  <cp:lastModifiedBy>Local User</cp:lastModifiedBy>
  <dcterms:modified xsi:type="dcterms:W3CDTF">2013-09-03T17:29:34Z</dcterms:modified>
  <cp:revision>11</cp:revision>
  <dc:subject/>
  <dc:title>Slide 1</dc:title>
</cp:coreProperties>
</file>